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EF8-5E0E-48D2-9E05-36A47C28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OTE: the ping command will not work due to the http:// in front of the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E1B-D59B-4494-A8E8-ACE3C5FE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06C-C982-408F-94F9-54D0C71A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A0A-C16E-4C88-8614-D14102E8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F42-F764-47B5-BF18-92C19408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E1F6-532D-4E70-82DE-D36598BC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3FBE-58E1-4F4D-A81C-8AEA5CB7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2974-EE3F-4024-850C-67F7AD7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F7B-2A55-476E-9BC6-9296FDA8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20E2-7290-4E01-83D9-70272A35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C4F6-43D3-4BDF-87FC-E188945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8E3C-F19A-4E7F-B0FB-4CBB617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75A-45F5-476E-9DFC-28036825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F172-F71A-42E3-B0F3-61A140C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9FF5-46D5-4AEC-A264-7C19295C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F243-DF89-41F1-90FA-B363993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FD00-B52E-4C97-8B1A-87C04367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1BE-D9A2-46D5-B1FC-C30064A9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184-48EA-4214-9627-D0A8C6E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4CC-13CB-407A-BD98-691E05FA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FB7-F60D-47C3-B63D-F7B1BE9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CF3-14F7-43DF-8294-5A408ABC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E13-15C6-4A8F-9AEE-549F76B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E08-81DB-4A8A-BD63-DEAD767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1D9-20BE-40D7-B5CF-12D94B4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3F7F-F5F5-4DAA-AF50-086FC60958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25B2-68A7-4B9A-9B12-F1694E1154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iik.ee/et/" TargetMode="External"/><Relationship Id="rId3" Type="http://schemas.openxmlformats.org/officeDocument/2006/relationships/hyperlink" Target="http://www.riik.ee/et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22600" y="2505240"/>
            <a:ext cx="51703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Cyber Attacks in Modern Confl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 Case Study of the Cyber Attac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gainst Estonia in 200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Rain Ot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1a5cc8"/>
                </a:solidFill>
                <a:latin typeface="Calibri"/>
              </a:rPr>
              <a:t>Cooperative Cyber Def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1a5cc8"/>
                </a:solidFill>
                <a:latin typeface="Calibri"/>
              </a:rPr>
              <a:t>Centre of Excell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Possible explanation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Grass roots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False flag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irect information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Indirect information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People’s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Govt. provides motivation and protection from legal sa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Lessons learned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881360"/>
            <a:ext cx="69850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NOT just a technic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Cooperation i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Attack attribution may be im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Very few active counter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Cyber attacks are easy to orga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and you could be 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Internet is being militar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Agenda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79640" y="1881360"/>
            <a:ext cx="68594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Overview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efensive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Lessons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Background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Bronze Soldier stat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e-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13280" y="2492280"/>
            <a:ext cx="317052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26-27.04 – Riots in Tall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27.04 – 18.05 – Cyber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63640" y="1952640"/>
            <a:ext cx="7380360" cy="468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63640" y="1914480"/>
            <a:ext cx="738036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Overview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63640" y="1916280"/>
            <a:ext cx="7380360" cy="47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evian"/>
          <p:cNvPicPr/>
          <p:nvPr/>
        </p:nvPicPr>
        <p:blipFill>
          <a:blip r:embed="rId5"/>
          <a:stretch/>
        </p:blipFill>
        <p:spPr>
          <a:xfrm>
            <a:off x="3708360" y="1916280"/>
            <a:ext cx="3571920" cy="4724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763640" y="1916280"/>
            <a:ext cx="738036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Motivation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Calls and (detailed) instructions to attack Estonia on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Сегодня, проводится грандиозная DoS-атака на сайт их правительства </a:t>
            </a:r>
            <a:r>
              <a:rPr b="0" lang="et-EE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www.riik.ee/et</a:t>
            </a:r>
            <a:r>
              <a:rPr b="0" lang="et-EE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/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ооуществить это легко - заходим в Пуск - Стандартные - командная строка, в открывшемся окне пишем : </a:t>
            </a:r>
            <a:br>
              <a:rPr sz="2400"/>
            </a:br>
            <a:r>
              <a:rPr b="1" lang="et-EE" sz="2400" spc="-1" strike="noStrike">
                <a:solidFill>
                  <a:srgbClr val="ff3300"/>
                </a:solidFill>
                <a:latin typeface="Arial"/>
              </a:rPr>
              <a:t>ping -n 5000 -l 1000 http://www.riik.e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на это вы потратите 5 мегабайт исходящего траф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Attack method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efa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E-mail and comment sp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DoS and DDoS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Manual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Bot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Some exploits and h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Target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Public governmen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ISP-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0000"/>
                </a:solidFill>
                <a:latin typeface="Calibri"/>
              </a:rPr>
              <a:t>B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On-lin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eople and busi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Random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Associated event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olitical propag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Embassy siege in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Indirect economic sa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ffcc00"/>
                </a:solidFill>
                <a:latin typeface="Calibri"/>
              </a:rPr>
              <a:t>Defensive actions</a:t>
            </a:r>
            <a:endParaRPr b="0" lang="en-US" sz="4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79640" y="1881000"/>
            <a:ext cx="6859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CERT-EE and volu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International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Law e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Calibri"/>
              </a:rPr>
              <a:t>Only one attacker identified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Calibri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6:04:00Z</dcterms:created>
  <dc:creator>Rain Ottis</dc:creator>
  <dc:description/>
  <cp:keywords/>
  <dc:language>en-US</dc:language>
  <cp:lastModifiedBy>Rain Ottis</cp:lastModifiedBy>
  <dcterms:modified xsi:type="dcterms:W3CDTF">2008-09-05T11:18:14Z</dcterms:modified>
  <cp:revision>104</cp:revision>
  <dc:subject/>
  <dc:title>Cyber atta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61033</vt:lpwstr>
  </property>
</Properties>
</file>